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D1DB-A738-4F5D-8858-8E0F253B9D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9F5-E546-46FD-98CA-58302FBE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E9E7-D84D-4B26-88AC-B8939638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DC2-DDF3-4000-8528-8BBF5E75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438-2926-4C92-863E-8C1D79C8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1FD8-6EC7-461A-9B50-F61A5E7A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581B-C1A5-43FC-829F-C96309E2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054D-154B-43D4-A5B3-4F87DE7C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012C-8CA8-4E3A-8BF9-204EBF97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BFE8-F1AE-476F-90BC-FED0D63B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0745-23EC-421A-B887-3D510F07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8441-4163-4FD0-BA0C-821440FC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4BE-2CC7-48A8-8B9F-718DF76D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0D2F-7F79-4308-822D-286DF847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1245-63CF-4512-86D8-1DBCCFAC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AB22-CA25-4604-97C6-984E89FD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8A92-808F-4B6D-B75A-9866EB4A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9F74-ACF6-48D1-ABEC-AECC41DF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A20-BD81-467D-ACDA-486C5D1A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A0A-F51C-46BC-BA6B-44D19BFB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813-6F96-41EB-A8D6-63742096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59A-F8BC-4789-AE9F-2D838D09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D1E-19FF-42D9-BAF9-D78B781E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3E5-A6B4-4CF7-874E-1B361359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FB5-88FB-438B-9078-DE169859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AE5F-C55A-498B-A027-F5E804D3EC8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C861-6550-4514-94EB-63EEABCFF2C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4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8000"/>
                            </p:stCondLst>
                            <p:childTnLst>
                              <p:par>
                                <p:cTn id="7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8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8500"/>
                            </p:stCondLst>
                            <p:childTnLst>
                              <p:par>
                                <p:cTn id="8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5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9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8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3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7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1" dur="5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500"/>
                            </p:stCondLst>
                            <p:childTnLst>
                              <p:par>
                                <p:cTn id="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000"/>
                            </p:stCondLst>
                            <p:childTnLst>
                              <p:par>
                                <p:cTn id="95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500"/>
                            </p:stCondLst>
                            <p:childTnLst>
                              <p:par>
                                <p:cTn id="9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1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5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450"/>
                            </p:stCondLst>
                            <p:childTnLst>
                              <p:par>
                                <p:cTn id="100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250"/>
                            </p:stCondLst>
                            <p:childTnLst>
                              <p:par>
                                <p:cTn id="101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800"/>
                            </p:stCondLst>
                            <p:childTnLst>
                              <p:par>
                                <p:cTn id="1018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300"/>
                            </p:stCondLst>
                            <p:childTnLst>
                              <p:par>
                                <p:cTn id="1026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850"/>
                            </p:stCondLst>
                            <p:childTnLst>
                              <p:par>
                                <p:cTn id="103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400"/>
                            </p:stCondLst>
                            <p:childTnLst>
                              <p:par>
                                <p:cTn id="1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3900"/>
                            </p:stCondLst>
                            <p:childTnLst>
                              <p:par>
                                <p:cTn id="1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4900"/>
                            </p:stCondLst>
                            <p:childTnLst>
                              <p:par>
                                <p:cTn id="1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69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650"/>
                            </p:stCondLst>
                            <p:childTnLst>
                              <p:par>
                                <p:cTn id="1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850"/>
                            </p:stCondLst>
                            <p:childTnLst>
                              <p:par>
                                <p:cTn id="1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550"/>
                            </p:stCondLst>
                            <p:childTnLst>
                              <p:par>
                                <p:cTn id="1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6050"/>
                            </p:stCondLst>
                            <p:childTnLst>
                              <p:par>
                                <p:cTn id="1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50"/>
                            </p:stCondLst>
                            <p:childTnLst>
                              <p:par>
                                <p:cTn id="127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550"/>
                            </p:stCondLst>
                            <p:childTnLst>
                              <p:par>
                                <p:cTn id="128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3200"/>
                            </p:stCondLst>
                            <p:childTnLst>
                              <p:par>
                                <p:cTn id="129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750"/>
                            </p:stCondLst>
                            <p:childTnLst>
                              <p:par>
                                <p:cTn id="130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4250"/>
                            </p:stCondLst>
                            <p:childTnLst>
                              <p:par>
                                <p:cTn id="131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900"/>
                            </p:stCondLst>
                            <p:childTnLst>
                              <p:par>
                                <p:cTn id="1330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450"/>
                            </p:stCondLst>
                            <p:childTnLst>
                              <p:par>
                                <p:cTn id="134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6050"/>
                            </p:stCondLst>
                            <p:childTnLst>
                              <p:par>
                                <p:cTn id="13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700"/>
                            </p:stCondLst>
                            <p:childTnLst>
                              <p:par>
                                <p:cTn id="136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750"/>
                            </p:stCondLst>
                            <p:childTnLst>
                              <p:par>
                                <p:cTn id="138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250"/>
                            </p:stCondLst>
                            <p:childTnLst>
                              <p:par>
                                <p:cTn id="139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70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9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3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7" dur="500"/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1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5" dur="500"/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6" dur="5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6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0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7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1" dur="500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5" dur="500"/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0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6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0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disasi</cp:lastModifiedBy>
  <dcterms:modified xsi:type="dcterms:W3CDTF">2004-08-10T16:35:17Z</dcterms:modified>
  <cp:revision>656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5228822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